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5017-3545-454F-913D-DAEC4BE34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F3A5-F9B3-4DCE-8B6C-10EF4A433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1ECE-89F9-4AEB-BDE5-969C9FE1E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F3DB-B30D-498D-8760-73CB86050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EEB8-F29E-43C8-B0AD-F58DA680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880A-ACAF-462A-BF51-914D86CBE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3170-A1B5-44AC-8715-34FD1A6CF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2EE2-9F58-4AF7-AA83-C4D6F856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6600-BDD9-499E-913C-55E006E0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244B-0123-4207-BBEC-5B69F936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5D09-DC48-4620-8C9F-ECB6F13E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F1E1-5B94-4CB3-9F4C-31A37113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3404-8DDA-4B90-86F4-7632FFD8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D699-E195-42B6-9A96-84C1FADA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63B7-7ED9-41D6-9EE9-AA90BBDC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0432-0DB6-4434-AEBE-DC2219A08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60948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ews Scavenger H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l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entine’s D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 P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e S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sg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entow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e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a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ezue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ind a news headline for each of the following words.  Skim the article and cut and paste the headline and the newspaper to a word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j0293176[1]"/>
          <p:cNvPicPr/>
          <p:nvPr/>
        </p:nvPicPr>
        <p:blipFill>
          <a:blip r:embed="rId2"/>
          <a:stretch/>
        </p:blipFill>
        <p:spPr>
          <a:xfrm>
            <a:off x="6934320" y="457200"/>
            <a:ext cx="175896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ood Mornin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189400" y="1600200"/>
          <a:ext cx="2954520" cy="4525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9400" y="1600200"/>
                    <a:ext cx="29545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11:20:57Z</dcterms:created>
  <dc:creator>Property of</dc:creator>
  <dc:description/>
  <dc:language>en-US</dc:language>
  <cp:lastModifiedBy>PA Department of Education Classrooms for the Future</cp:lastModifiedBy>
  <dcterms:modified xsi:type="dcterms:W3CDTF">2011-09-06T22:52:30Z</dcterms:modified>
  <cp:revision>15</cp:revision>
  <dc:subject/>
  <dc:title>Slide 1</dc:title>
</cp:coreProperties>
</file>